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28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3EC-60B9-485C-B72A-EF7343678FC9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2C77-31C0-49FC-85D3-7A76C644C7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17C-33D7-4029-B3D5-F4FC1CF5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AF3-9D6A-490A-9C20-10EA141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544-9802-4BEE-A8BB-5B871FFD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039-6396-4A38-8E45-F26FB468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5DE-AA98-4614-BFD3-3A136337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B0C-894A-4C22-8ACC-D3E4C353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75C-53FE-45F6-9C08-0C0EF0E9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9F5-9BB2-4ADB-B9BF-538A3B4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364-07F9-4B6D-ADFA-1E418959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E23-8B67-44AD-A337-AA58B21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4D7-4AA4-4A4B-84AC-188FA28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C1D-50DA-4386-A990-8B6EF14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50D1-F92F-41C1-B545-FE4FD266DEF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78588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357120" y="1785960"/>
            <a:ext cx="7358040" cy="4057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Digestión y absorción de Lípidos. Metabolismo de líp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eta-oxidación. Ácidos grasos saturados, no saturados e insaturados de número par de átomos de C. Regulación en la utilización de sus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xidación de ácidos grasos de número impar de átomos de carbono. Oxidación peroxisómica de ácidos grasos. Rend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iclo del Glioxilato. Localización. Importa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uerpos cetónico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2843280" y="1792440"/>
            <a:ext cx="5230440" cy="642600"/>
            <a:chOff x="2843280" y="1792440"/>
            <a:chExt cx="5230440" cy="642600"/>
          </a:xfrm>
        </p:grpSpPr>
        <p:sp>
          <p:nvSpPr>
            <p:cNvPr id="114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5619240" y="1792440"/>
              <a:ext cx="245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Lipasa saliv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(muy poca activid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3132000" y="4340160"/>
            <a:ext cx="5380920" cy="2136600"/>
            <a:chOff x="3132000" y="4340160"/>
            <a:chExt cx="5380920" cy="2136600"/>
          </a:xfrm>
        </p:grpSpPr>
        <p:sp>
          <p:nvSpPr>
            <p:cNvPr id="117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767560" y="4340160"/>
              <a:ext cx="274536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Hormonas :Secretina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Colecistoquini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c0504d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c0504d"/>
                  </a:solidFill>
                  <a:latin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f81bd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4f81bd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4f81bd"/>
                  </a:solidFill>
                  <a:latin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3564000" y="3521160"/>
            <a:ext cx="5237280" cy="368280"/>
            <a:chOff x="3564000" y="3521160"/>
            <a:chExt cx="5237280" cy="368280"/>
          </a:xfrm>
        </p:grpSpPr>
        <p:sp>
          <p:nvSpPr>
            <p:cNvPr id="120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5179320" y="3521160"/>
              <a:ext cx="36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13 CuadroTexto"/>
          <p:cNvSpPr/>
          <p:nvPr/>
        </p:nvSpPr>
        <p:spPr>
          <a:xfrm>
            <a:off x="1481400" y="21420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Illu small intestine español.png"/>
          <p:cNvPicPr/>
          <p:nvPr/>
        </p:nvPicPr>
        <p:blipFill>
          <a:blip r:embed="rId1"/>
          <a:stretch/>
        </p:blipFill>
        <p:spPr>
          <a:xfrm>
            <a:off x="1782720" y="928800"/>
            <a:ext cx="4322880" cy="3133440"/>
          </a:xfrm>
          <a:prstGeom prst="rect">
            <a:avLst/>
          </a:prstGeom>
          <a:ln w="0">
            <a:noFill/>
          </a:ln>
        </p:spPr>
      </p:pic>
      <p:sp>
        <p:nvSpPr>
          <p:cNvPr id="124" name="2 CuadroTexto"/>
          <p:cNvSpPr/>
          <p:nvPr/>
        </p:nvSpPr>
        <p:spPr>
          <a:xfrm>
            <a:off x="2165400" y="4714920"/>
            <a:ext cx="497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Regiones funcionales del Intestino delg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Duod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Ye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I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</a:t>
            </a:r>
            <a:br>
              <a:rPr sz="3200"/>
            </a:b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 Fu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2960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túan como deterg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Aumentan la acción de la 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ducen la tensión superficial (emulsión de gras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Favorecen la absorción de vitam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Acción colerética (estimulan la producción de bil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ndo alcanzan concentración crítica forman las “micela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Mantienen los lípidos en pequeñas micelas en suspensión en el medio acuoso del contenido intestinal y aumentan la superficie de ataque de las enzimas li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upo 19"/>
          <p:cNvGrpSpPr/>
          <p:nvPr/>
        </p:nvGrpSpPr>
        <p:grpSpPr>
          <a:xfrm>
            <a:off x="468360" y="2178000"/>
            <a:ext cx="8675640" cy="3893760"/>
            <a:chOff x="468360" y="2178000"/>
            <a:chExt cx="8675640" cy="3893760"/>
          </a:xfrm>
        </p:grpSpPr>
        <p:pic>
          <p:nvPicPr>
            <p:cNvPr id="128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46672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uadro de texto 7"/>
            <p:cNvSpPr/>
            <p:nvPr/>
          </p:nvSpPr>
          <p:spPr>
            <a:xfrm>
              <a:off x="826920" y="477036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uadro de texto 8"/>
            <p:cNvSpPr/>
            <p:nvPr/>
          </p:nvSpPr>
          <p:spPr>
            <a:xfrm>
              <a:off x="1403280" y="28270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uadro de texto 9"/>
            <p:cNvSpPr/>
            <p:nvPr/>
          </p:nvSpPr>
          <p:spPr>
            <a:xfrm>
              <a:off x="4067280" y="469872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uadro de texto 10"/>
            <p:cNvSpPr/>
            <p:nvPr/>
          </p:nvSpPr>
          <p:spPr>
            <a:xfrm>
              <a:off x="4140360" y="369072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uadro de texto 11"/>
            <p:cNvSpPr/>
            <p:nvPr/>
          </p:nvSpPr>
          <p:spPr>
            <a:xfrm>
              <a:off x="2340000" y="549108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uadro de texto 12"/>
            <p:cNvSpPr/>
            <p:nvPr/>
          </p:nvSpPr>
          <p:spPr>
            <a:xfrm>
              <a:off x="6084720" y="549108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uadro de texto 13"/>
            <p:cNvSpPr/>
            <p:nvPr/>
          </p:nvSpPr>
          <p:spPr>
            <a:xfrm>
              <a:off x="5364000" y="256212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4"/>
            <p:cNvSpPr/>
            <p:nvPr/>
          </p:nvSpPr>
          <p:spPr>
            <a:xfrm>
              <a:off x="7451640" y="217800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uadro de texto 15"/>
            <p:cNvSpPr/>
            <p:nvPr/>
          </p:nvSpPr>
          <p:spPr>
            <a:xfrm>
              <a:off x="7631280" y="284940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uadro de texto 16"/>
            <p:cNvSpPr/>
            <p:nvPr/>
          </p:nvSpPr>
          <p:spPr>
            <a:xfrm>
              <a:off x="7740720" y="412236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uadro de texto 17"/>
            <p:cNvSpPr/>
            <p:nvPr/>
          </p:nvSpPr>
          <p:spPr>
            <a:xfrm>
              <a:off x="7524720" y="549108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ángulo 20"/>
          <p:cNvSpPr/>
          <p:nvPr/>
        </p:nvSpPr>
        <p:spPr>
          <a:xfrm>
            <a:off x="5292720" y="19684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 y emulsión de gr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adro de texto 18"/>
          <p:cNvSpPr/>
          <p:nvPr/>
        </p:nvSpPr>
        <p:spPr>
          <a:xfrm>
            <a:off x="357120" y="1496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lipas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Péptido que forma complejo con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pasa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laza a las sales biliares, permite la unión de lipasa pancreática y la degradación de 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9 CuadroTexto"/>
          <p:cNvSpPr/>
          <p:nvPr/>
        </p:nvSpPr>
        <p:spPr>
          <a:xfrm>
            <a:off x="214200" y="59976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enido interno de las micelas: compuestos finales de la di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AG, AG cadena larga, lisofosfolípidos, colesterol, vitaminas liposolu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1785600"/>
            <a:ext cx="8569440" cy="478620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BOC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salival </a:t>
            </a:r>
            <a:r>
              <a:rPr b="0" lang="es-ES" sz="2000" spc="-1" strike="noStrike">
                <a:solidFill>
                  <a:srgbClr val="0000cc"/>
                </a:solidFill>
                <a:latin typeface="Calibri"/>
              </a:rPr>
              <a:t>(mucosa lingual, poca actividad humanos, hidroliza uniones éster en T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ÓMAGO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Gástrica </a:t>
            </a:r>
            <a:r>
              <a:rPr b="0" lang="es-ES" sz="2000" spc="-1" strike="noStrike">
                <a:solidFill>
                  <a:srgbClr val="0000cc"/>
                </a:solidFill>
                <a:latin typeface="Calibri"/>
              </a:rPr>
              <a:t>(importante en niños, hidroliza uniones éster en posición 1,3 de TG, 10-20% TG</a:t>
            </a:r>
            <a:r>
              <a:rPr b="0" lang="es-ES" sz="1800" spc="-1" strike="noStrike">
                <a:solidFill>
                  <a:srgbClr val="0000c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789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es-ES" sz="2400" spc="-1" strike="noStrike">
                <a:solidFill>
                  <a:srgbClr val="0000cc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Secret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Secreción de electrolitos y  líquidos pancre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Colecistoquin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Contracción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Vesícula biliar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ANCREA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Secreción de Enzi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Oval 1028"/>
          <p:cNvGrpSpPr/>
          <p:nvPr/>
        </p:nvGrpSpPr>
        <p:grpSpPr>
          <a:xfrm>
            <a:off x="1590840" y="5151600"/>
            <a:ext cx="1963440" cy="658800"/>
            <a:chOff x="1590840" y="5151600"/>
            <a:chExt cx="1963440" cy="658800"/>
          </a:xfrm>
        </p:grpSpPr>
        <p:pic>
          <p:nvPicPr>
            <p:cNvPr id="147" name="Oval 1028" descr=""/>
            <p:cNvPicPr/>
            <p:nvPr/>
          </p:nvPicPr>
          <p:blipFill>
            <a:blip r:embed="rId1"/>
            <a:stretch/>
          </p:blipFill>
          <p:spPr>
            <a:xfrm>
              <a:off x="1590840" y="5151600"/>
              <a:ext cx="19634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965240" y="5345280"/>
              <a:ext cx="1212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síntesis por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duodeno y yeyun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8"/>
          <p:cNvSpPr/>
          <p:nvPr/>
        </p:nvSpPr>
        <p:spPr>
          <a:xfrm>
            <a:off x="2643120" y="5857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785960" y="500076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6929280" y="58579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32"/>
          <p:cNvSpPr/>
          <p:nvPr/>
        </p:nvSpPr>
        <p:spPr>
          <a:xfrm>
            <a:off x="4714920" y="62150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33"/>
          <p:cNvSpPr/>
          <p:nvPr/>
        </p:nvSpPr>
        <p:spPr>
          <a:xfrm>
            <a:off x="2571840" y="6072120"/>
            <a:ext cx="647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4 Grupo"/>
          <p:cNvGrpSpPr/>
          <p:nvPr/>
        </p:nvGrpSpPr>
        <p:grpSpPr>
          <a:xfrm>
            <a:off x="3643200" y="3286080"/>
            <a:ext cx="5500800" cy="1388520"/>
            <a:chOff x="3643200" y="3286080"/>
            <a:chExt cx="5500800" cy="1388520"/>
          </a:xfrm>
        </p:grpSpPr>
        <p:grpSp>
          <p:nvGrpSpPr>
            <p:cNvPr id="155" name="Group 1031"/>
            <p:cNvGrpSpPr/>
            <p:nvPr/>
          </p:nvGrpSpPr>
          <p:grpSpPr>
            <a:xfrm>
              <a:off x="3643200" y="3645000"/>
              <a:ext cx="941400" cy="792000"/>
              <a:chOff x="3643200" y="3645000"/>
              <a:chExt cx="941400" cy="792000"/>
            </a:xfrm>
          </p:grpSpPr>
          <p:sp>
            <p:nvSpPr>
              <p:cNvPr id="156" name="Line 6"/>
              <p:cNvSpPr/>
              <p:nvPr/>
            </p:nvSpPr>
            <p:spPr>
              <a:xfrm flipV="1">
                <a:off x="3643200" y="3645000"/>
                <a:ext cx="94140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7"/>
              <p:cNvSpPr/>
              <p:nvPr/>
            </p:nvSpPr>
            <p:spPr>
              <a:xfrm>
                <a:off x="3643200" y="4148280"/>
                <a:ext cx="94140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1036"/>
            <p:cNvSpPr/>
            <p:nvPr/>
          </p:nvSpPr>
          <p:spPr>
            <a:xfrm>
              <a:off x="4520880" y="3286080"/>
              <a:ext cx="4623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Lipasa Pancreática</a:t>
              </a:r>
              <a:r>
                <a:rPr b="1" i="1" lang="es-ES" sz="24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r>
                <a:rPr b="0" lang="es-ES" sz="2400" spc="-1" strike="noStrike">
                  <a:solidFill>
                    <a:srgbClr val="0000cc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0000cc"/>
                  </a:solidFill>
                  <a:latin typeface="Arial"/>
                </a:rPr>
                <a:t>hidroliza uniones éster en posición 1,3 de T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38"/>
            <p:cNvSpPr/>
            <p:nvPr/>
          </p:nvSpPr>
          <p:spPr>
            <a:xfrm>
              <a:off x="4571640" y="4214880"/>
              <a:ext cx="387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Sales bili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2400" spc="-1" strike="noStrike">
                <a:solidFill>
                  <a:srgbClr val="c00000"/>
                </a:solidFill>
                <a:latin typeface="Arial Rounded MT Bold"/>
              </a:rPr>
              <a:t>Órganos que intervi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17 Flecha izquierda, derecha y arriba"/>
          <p:cNvSpPr/>
          <p:nvPr/>
        </p:nvSpPr>
        <p:spPr>
          <a:xfrm rot="5400000">
            <a:off x="1188360" y="5312520"/>
            <a:ext cx="488880" cy="293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3"/>
          <p:cNvGrpSpPr/>
          <p:nvPr/>
        </p:nvGrpSpPr>
        <p:grpSpPr>
          <a:xfrm>
            <a:off x="401760" y="1620720"/>
            <a:ext cx="8278560" cy="4604040"/>
            <a:chOff x="401760" y="1620720"/>
            <a:chExt cx="8278560" cy="4604040"/>
          </a:xfrm>
        </p:grpSpPr>
        <p:pic>
          <p:nvPicPr>
            <p:cNvPr id="164" name="Rectangle 3" descr=""/>
            <p:cNvPicPr/>
            <p:nvPr/>
          </p:nvPicPr>
          <p:blipFill>
            <a:blip r:embed="rId1"/>
            <a:stretch/>
          </p:blipFill>
          <p:spPr>
            <a:xfrm>
              <a:off x="401760" y="1620720"/>
              <a:ext cx="8278560" cy="46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9640" y="1714680"/>
              <a:ext cx="807732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4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</a:t>
              </a:r>
              <a:r>
                <a:rPr b="1" lang="es-E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-</a:t>
              </a: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 lipasa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 : </a:t>
              </a:r>
              <a:r>
                <a:rPr b="1" lang="es-ES" sz="2400" spc="-1" strike="noStrike">
                  <a:solidFill>
                    <a:srgbClr val="00b050"/>
                  </a:solidFill>
                  <a:latin typeface="Arial"/>
                </a:rPr>
                <a:t>Ataca uniones ésteres de posición 1 y 3 de los TG dejando monoglicéridos esterificados en C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Esterasa</a:t>
              </a: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00b050"/>
                  </a:solidFill>
                  <a:latin typeface="Arial"/>
                </a:rPr>
                <a:t>Hidroliza la unión 2 del monoglicér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olipasa A</a:t>
              </a:r>
              <a:r>
                <a:rPr b="1" i="1" lang="es-ES" sz="2400" spc="-1" strike="noStrike" u="sng" baseline="-25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ctúa sobre C 2 de fosfolíp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atasa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3333cc"/>
                  </a:solidFill>
                  <a:latin typeface="Arial"/>
                </a:rPr>
                <a:t>Hidroliza unión fosfato de lisolecit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Colesterol esterasa</a:t>
              </a: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: 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Actúa s/ésteres de coleste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2800" spc="-1" strike="noStrike">
                <a:solidFill>
                  <a:srgbClr val="c00000"/>
                </a:solidFill>
                <a:latin typeface="Arial Rounded MT Bold"/>
              </a:rPr>
              <a:t>Enzimas digestiva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75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76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77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gestión de Triglicér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ción de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93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94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95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9"/>
          <p:cNvSpPr/>
          <p:nvPr/>
        </p:nvSpPr>
        <p:spPr>
          <a:xfrm>
            <a:off x="4356000" y="2060640"/>
            <a:ext cx="1368360" cy="368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Est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35 Grupo"/>
          <p:cNvGrpSpPr/>
          <p:nvPr/>
        </p:nvGrpSpPr>
        <p:grpSpPr>
          <a:xfrm>
            <a:off x="250920" y="2997360"/>
            <a:ext cx="7388280" cy="3148200"/>
            <a:chOff x="250920" y="2997360"/>
            <a:chExt cx="7388280" cy="3148200"/>
          </a:xfrm>
        </p:grpSpPr>
        <p:grpSp>
          <p:nvGrpSpPr>
            <p:cNvPr id="209" name="134 Grupo"/>
            <p:cNvGrpSpPr/>
            <p:nvPr/>
          </p:nvGrpSpPr>
          <p:grpSpPr>
            <a:xfrm>
              <a:off x="250920" y="2997360"/>
              <a:ext cx="7388280" cy="3148200"/>
              <a:chOff x="250920" y="2997360"/>
              <a:chExt cx="7388280" cy="3148200"/>
            </a:xfrm>
          </p:grpSpPr>
          <p:sp>
            <p:nvSpPr>
              <p:cNvPr id="210" name="Rectangle 107"/>
              <p:cNvSpPr/>
              <p:nvPr/>
            </p:nvSpPr>
            <p:spPr>
              <a:xfrm>
                <a:off x="3158640" y="4214880"/>
                <a:ext cx="14608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Lip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Pancreátic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H 6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2"/>
              <p:cNvSpPr/>
              <p:nvPr/>
            </p:nvSpPr>
            <p:spPr>
              <a:xfrm>
                <a:off x="4650840" y="5589720"/>
                <a:ext cx="1872360" cy="34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glicéri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155"/>
              <p:cNvGrpSpPr/>
              <p:nvPr/>
            </p:nvGrpSpPr>
            <p:grpSpPr>
              <a:xfrm>
                <a:off x="4859640" y="3852720"/>
                <a:ext cx="2779560" cy="1618200"/>
                <a:chOff x="4859640" y="3852720"/>
                <a:chExt cx="2779560" cy="1618200"/>
              </a:xfrm>
            </p:grpSpPr>
            <p:grpSp>
              <p:nvGrpSpPr>
                <p:cNvPr id="213" name="Group 153"/>
                <p:cNvGrpSpPr/>
                <p:nvPr/>
              </p:nvGrpSpPr>
              <p:grpSpPr>
                <a:xfrm>
                  <a:off x="4859640" y="3852720"/>
                  <a:ext cx="2779560" cy="1618200"/>
                  <a:chOff x="4859640" y="3852720"/>
                  <a:chExt cx="2779560" cy="1618200"/>
                </a:xfrm>
              </p:grpSpPr>
              <p:grpSp>
                <p:nvGrpSpPr>
                  <p:cNvPr id="214" name="Group 150"/>
                  <p:cNvGrpSpPr/>
                  <p:nvPr/>
                </p:nvGrpSpPr>
                <p:grpSpPr>
                  <a:xfrm>
                    <a:off x="4859640" y="3852720"/>
                    <a:ext cx="2779560" cy="1618200"/>
                    <a:chOff x="4859640" y="3852720"/>
                    <a:chExt cx="2779560" cy="1618200"/>
                  </a:xfrm>
                </p:grpSpPr>
                <p:grpSp>
                  <p:nvGrpSpPr>
                    <p:cNvPr id="215" name="Group 141"/>
                    <p:cNvGrpSpPr/>
                    <p:nvPr/>
                  </p:nvGrpSpPr>
                  <p:grpSpPr>
                    <a:xfrm>
                      <a:off x="4859640" y="3852720"/>
                      <a:ext cx="2779560" cy="1618200"/>
                      <a:chOff x="4859640" y="3852720"/>
                      <a:chExt cx="2779560" cy="1618200"/>
                    </a:xfrm>
                  </p:grpSpPr>
                  <p:grpSp>
                    <p:nvGrpSpPr>
                      <p:cNvPr id="216" name="Group 140"/>
                      <p:cNvGrpSpPr/>
                      <p:nvPr/>
                    </p:nvGrpSpPr>
                    <p:grpSpPr>
                      <a:xfrm>
                        <a:off x="4859640" y="3852720"/>
                        <a:ext cx="2779560" cy="1618200"/>
                        <a:chOff x="4859640" y="3852720"/>
                        <a:chExt cx="2779560" cy="1618200"/>
                      </a:xfrm>
                    </p:grpSpPr>
                    <p:grpSp>
                      <p:nvGrpSpPr>
                        <p:cNvPr id="217" name="Group 139"/>
                        <p:cNvGrpSpPr/>
                        <p:nvPr/>
                      </p:nvGrpSpPr>
                      <p:grpSpPr>
                        <a:xfrm>
                          <a:off x="4859640" y="3852720"/>
                          <a:ext cx="2779560" cy="1618200"/>
                          <a:chOff x="4859640" y="3852720"/>
                          <a:chExt cx="2779560" cy="1618200"/>
                        </a:xfrm>
                      </p:grpSpPr>
                      <p:sp>
                        <p:nvSpPr>
                          <p:cNvPr id="218" name="Rectangle 55"/>
                          <p:cNvSpPr/>
                          <p:nvPr/>
                        </p:nvSpPr>
                        <p:spPr>
                          <a:xfrm>
                            <a:off x="5182920" y="38602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Rectangle 57"/>
                          <p:cNvSpPr/>
                          <p:nvPr/>
                        </p:nvSpPr>
                        <p:spPr>
                          <a:xfrm>
                            <a:off x="4859640" y="4428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Rectangle 84"/>
                          <p:cNvSpPr/>
                          <p:nvPr/>
                        </p:nvSpPr>
                        <p:spPr>
                          <a:xfrm>
                            <a:off x="5891040" y="4452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Rectangle 85"/>
                          <p:cNvSpPr/>
                          <p:nvPr/>
                        </p:nvSpPr>
                        <p:spPr>
                          <a:xfrm>
                            <a:off x="6300720" y="4452480"/>
                            <a:ext cx="8679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Rectangle 90"/>
                          <p:cNvSpPr/>
                          <p:nvPr/>
                        </p:nvSpPr>
                        <p:spPr>
                          <a:xfrm>
                            <a:off x="5867280" y="4114440"/>
                            <a:ext cx="3157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Rectangle 92"/>
                          <p:cNvSpPr/>
                          <p:nvPr/>
                        </p:nvSpPr>
                        <p:spPr>
                          <a:xfrm>
                            <a:off x="7100280" y="44524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Rectangle 103"/>
                          <p:cNvSpPr/>
                          <p:nvPr/>
                        </p:nvSpPr>
                        <p:spPr>
                          <a:xfrm>
                            <a:off x="4916160" y="5076360"/>
                            <a:ext cx="31032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800" spc="-1" strike="noStrike">
                                <a:solidFill>
                                  <a:srgbClr val="000000"/>
                                </a:solidFill>
                                <a:latin typeface="Symbol"/>
                                <a:ea typeface="Symbol"/>
                              </a:rPr>
                              <a:t>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Rectangle 106"/>
                          <p:cNvSpPr/>
                          <p:nvPr/>
                        </p:nvSpPr>
                        <p:spPr>
                          <a:xfrm>
                            <a:off x="5435640" y="5100120"/>
                            <a:ext cx="43128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Rectangle 54"/>
                          <p:cNvSpPr/>
                          <p:nvPr/>
                        </p:nvSpPr>
                        <p:spPr>
                          <a:xfrm>
                            <a:off x="5148360" y="4428720"/>
                            <a:ext cx="3297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7" name="Line 59"/>
                          <p:cNvSpPr/>
                          <p:nvPr/>
                        </p:nvSpPr>
                        <p:spPr>
                          <a:xfrm>
                            <a:off x="5292720" y="4141440"/>
                            <a:ext cx="0" cy="3693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8" name="Line 68"/>
                          <p:cNvSpPr/>
                          <p:nvPr/>
                        </p:nvSpPr>
                        <p:spPr>
                          <a:xfrm>
                            <a:off x="5292720" y="4716000"/>
                            <a:ext cx="0" cy="3697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9" name="Line 87"/>
                          <p:cNvSpPr/>
                          <p:nvPr/>
                        </p:nvSpPr>
                        <p:spPr>
                          <a:xfrm>
                            <a:off x="7020000" y="4668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Line 86"/>
                          <p:cNvSpPr/>
                          <p:nvPr/>
                        </p:nvSpPr>
                        <p:spPr>
                          <a:xfrm>
                            <a:off x="6156360" y="46447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1" name="Rectangle 73"/>
                          <p:cNvSpPr/>
                          <p:nvPr/>
                        </p:nvSpPr>
                        <p:spPr>
                          <a:xfrm>
                            <a:off x="5508720" y="44287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2" name="Rectangle 105"/>
                          <p:cNvSpPr/>
                          <p:nvPr/>
                        </p:nvSpPr>
                        <p:spPr>
                          <a:xfrm>
                            <a:off x="5435640" y="3852720"/>
                            <a:ext cx="4377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3" name="Rectangle 102"/>
                        <p:cNvSpPr/>
                        <p:nvPr/>
                      </p:nvSpPr>
                      <p:spPr>
                        <a:xfrm>
                          <a:off x="5364000" y="4068360"/>
                          <a:ext cx="301320" cy="3682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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Rectangle 104"/>
                        <p:cNvSpPr/>
                        <p:nvPr/>
                      </p:nvSpPr>
                      <p:spPr>
                        <a:xfrm>
                          <a:off x="5294160" y="4668480"/>
                          <a:ext cx="29196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61"/>
                        <p:cNvSpPr/>
                        <p:nvPr/>
                      </p:nvSpPr>
                      <p:spPr>
                        <a:xfrm>
                          <a:off x="579600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Line 88"/>
                        <p:cNvSpPr/>
                        <p:nvPr/>
                      </p:nvSpPr>
                      <p:spPr>
                        <a:xfrm>
                          <a:off x="6012000" y="4357440"/>
                          <a:ext cx="108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Line 89"/>
                        <p:cNvSpPr/>
                        <p:nvPr/>
                      </p:nvSpPr>
                      <p:spPr>
                        <a:xfrm>
                          <a:off x="6067440" y="4368600"/>
                          <a:ext cx="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60"/>
                        <p:cNvSpPr/>
                        <p:nvPr/>
                      </p:nvSpPr>
                      <p:spPr>
                        <a:xfrm>
                          <a:off x="543564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9" name="Rectangle 64"/>
                      <p:cNvSpPr/>
                      <p:nvPr/>
                    </p:nvSpPr>
                    <p:spPr>
                      <a:xfrm>
                        <a:off x="5170320" y="5108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0" name="Rectangle 149"/>
                    <p:cNvSpPr/>
                    <p:nvPr/>
                  </p:nvSpPr>
                  <p:spPr>
                    <a:xfrm>
                      <a:off x="4932360" y="5084640"/>
                      <a:ext cx="286920" cy="360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Rectangle 152"/>
                  <p:cNvSpPr/>
                  <p:nvPr/>
                </p:nvSpPr>
                <p:spPr>
                  <a:xfrm>
                    <a:off x="5364000" y="4724280"/>
                    <a:ext cx="21564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Rectangle 154"/>
                <p:cNvSpPr/>
                <p:nvPr/>
              </p:nvSpPr>
              <p:spPr>
                <a:xfrm>
                  <a:off x="5364000" y="4221000"/>
                  <a:ext cx="287280" cy="1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78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244" name="Rectangle 47"/>
                <p:cNvSpPr/>
                <p:nvPr/>
              </p:nvSpPr>
              <p:spPr>
                <a:xfrm>
                  <a:off x="1227240" y="4317840"/>
                  <a:ext cx="2808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77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246" name="Rectangle 49"/>
                  <p:cNvSpPr/>
                  <p:nvPr/>
                </p:nvSpPr>
                <p:spPr>
                  <a:xfrm>
                    <a:off x="2417400" y="457992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Rectangle 163"/>
                  <p:cNvSpPr/>
                  <p:nvPr/>
                </p:nvSpPr>
                <p:spPr>
                  <a:xfrm>
                    <a:off x="1617840" y="457992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64"/>
                  <p:cNvSpPr/>
                  <p:nvPr/>
                </p:nvSpPr>
                <p:spPr>
                  <a:xfrm>
                    <a:off x="2289240" y="472428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9" name="Group 176"/>
                  <p:cNvGrpSpPr/>
                  <p:nvPr/>
                </p:nvGrpSpPr>
                <p:grpSpPr>
                  <a:xfrm>
                    <a:off x="250920" y="2997360"/>
                    <a:ext cx="2705400" cy="3148200"/>
                    <a:chOff x="250920" y="2997360"/>
                    <a:chExt cx="2705400" cy="3148200"/>
                  </a:xfrm>
                </p:grpSpPr>
                <p:sp>
                  <p:nvSpPr>
                    <p:cNvPr id="250" name="Rectangle 13"/>
                    <p:cNvSpPr/>
                    <p:nvPr/>
                  </p:nvSpPr>
                  <p:spPr>
                    <a:xfrm>
                      <a:off x="574560" y="49622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Rectangle 12"/>
                    <p:cNvSpPr/>
                    <p:nvPr/>
                  </p:nvSpPr>
                  <p:spPr>
                    <a:xfrm>
                      <a:off x="561960" y="461808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736560" y="4878360"/>
                      <a:ext cx="0" cy="139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Rectangle 17"/>
                    <p:cNvSpPr/>
                    <p:nvPr/>
                  </p:nvSpPr>
                  <p:spPr>
                    <a:xfrm>
                      <a:off x="258840" y="46274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8"/>
                    <p:cNvSpPr/>
                    <p:nvPr/>
                  </p:nvSpPr>
                  <p:spPr>
                    <a:xfrm>
                      <a:off x="514440" y="477360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Rectangle 22"/>
                    <p:cNvSpPr/>
                    <p:nvPr/>
                  </p:nvSpPr>
                  <p:spPr>
                    <a:xfrm>
                      <a:off x="952560" y="462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Rectangle 41"/>
                    <p:cNvSpPr/>
                    <p:nvPr/>
                  </p:nvSpPr>
                  <p:spPr>
                    <a:xfrm>
                      <a:off x="1218960" y="462420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43"/>
                    <p:cNvSpPr/>
                    <p:nvPr/>
                  </p:nvSpPr>
                  <p:spPr>
                    <a:xfrm>
                      <a:off x="1460520" y="478620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5"/>
                    <p:cNvSpPr/>
                    <p:nvPr/>
                  </p:nvSpPr>
                  <p:spPr>
                    <a:xfrm>
                      <a:off x="838080" y="476892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46"/>
                    <p:cNvSpPr/>
                    <p:nvPr/>
                  </p:nvSpPr>
                  <p:spPr>
                    <a:xfrm>
                      <a:off x="1417680" y="459108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0" name="Group 170"/>
                    <p:cNvGrpSpPr/>
                    <p:nvPr/>
                  </p:nvGrpSpPr>
                  <p:grpSpPr>
                    <a:xfrm>
                      <a:off x="250920" y="2997360"/>
                      <a:ext cx="2705400" cy="3148200"/>
                      <a:chOff x="250920" y="2997360"/>
                      <a:chExt cx="2705400" cy="3148200"/>
                    </a:xfrm>
                  </p:grpSpPr>
                  <p:sp>
                    <p:nvSpPr>
                      <p:cNvPr id="261" name="Rectangle 40"/>
                      <p:cNvSpPr/>
                      <p:nvPr/>
                    </p:nvSpPr>
                    <p:spPr>
                      <a:xfrm>
                        <a:off x="2417400" y="40050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Rectangle 32"/>
                      <p:cNvSpPr/>
                      <p:nvPr/>
                    </p:nvSpPr>
                    <p:spPr>
                      <a:xfrm>
                        <a:off x="1222200" y="40050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Rectangle 38"/>
                      <p:cNvSpPr/>
                      <p:nvPr/>
                    </p:nvSpPr>
                    <p:spPr>
                      <a:xfrm>
                        <a:off x="1209600" y="367956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Line 34"/>
                      <p:cNvSpPr/>
                      <p:nvPr/>
                    </p:nvSpPr>
                    <p:spPr>
                      <a:xfrm>
                        <a:off x="1460520" y="4133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Line 35"/>
                      <p:cNvSpPr/>
                      <p:nvPr/>
                    </p:nvSpPr>
                    <p:spPr>
                      <a:xfrm>
                        <a:off x="1162080" y="41637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Line 36"/>
                      <p:cNvSpPr/>
                      <p:nvPr/>
                    </p:nvSpPr>
                    <p:spPr>
                      <a:xfrm>
                        <a:off x="1347840" y="395604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Line 37"/>
                      <p:cNvSpPr/>
                      <p:nvPr/>
                    </p:nvSpPr>
                    <p:spPr>
                      <a:xfrm>
                        <a:off x="1403280" y="3954240"/>
                        <a:ext cx="0" cy="122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Rectangle 162"/>
                      <p:cNvSpPr/>
                      <p:nvPr/>
                    </p:nvSpPr>
                    <p:spPr>
                      <a:xfrm>
                        <a:off x="1617840" y="40050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Line 165"/>
                      <p:cNvSpPr/>
                      <p:nvPr/>
                    </p:nvSpPr>
                    <p:spPr>
                      <a:xfrm>
                        <a:off x="2289240" y="4147920"/>
                        <a:ext cx="120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0" name="Group 169"/>
                      <p:cNvGrpSpPr/>
                      <p:nvPr/>
                    </p:nvGrpSpPr>
                    <p:grpSpPr>
                      <a:xfrm>
                        <a:off x="250920" y="2997360"/>
                        <a:ext cx="2562480" cy="3148200"/>
                        <a:chOff x="250920" y="2997360"/>
                        <a:chExt cx="2562480" cy="3148200"/>
                      </a:xfrm>
                    </p:grpSpPr>
                    <p:sp>
                      <p:nvSpPr>
                        <p:cNvPr id="271" name="Rectangle 29"/>
                        <p:cNvSpPr/>
                        <p:nvPr/>
                      </p:nvSpPr>
                      <p:spPr>
                        <a:xfrm>
                          <a:off x="1225440" y="299736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Rectangle 24"/>
                        <p:cNvSpPr/>
                        <p:nvPr/>
                      </p:nvSpPr>
                      <p:spPr>
                        <a:xfrm>
                          <a:off x="1528920" y="335088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Line 30"/>
                        <p:cNvSpPr/>
                        <p:nvPr/>
                      </p:nvSpPr>
                      <p:spPr>
                        <a:xfrm>
                          <a:off x="2203560" y="35240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Rectangle 31"/>
                        <p:cNvSpPr/>
                        <p:nvPr/>
                      </p:nvSpPr>
                      <p:spPr>
                        <a:xfrm>
                          <a:off x="2274480" y="335592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Line 27"/>
                        <p:cNvSpPr/>
                        <p:nvPr/>
                      </p:nvSpPr>
                      <p:spPr>
                        <a:xfrm>
                          <a:off x="1346400" y="3286080"/>
                          <a:ext cx="1440" cy="1011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Line 28"/>
                        <p:cNvSpPr/>
                        <p:nvPr/>
                      </p:nvSpPr>
                      <p:spPr>
                        <a:xfrm>
                          <a:off x="1403280" y="3284280"/>
                          <a:ext cx="0" cy="1220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Rectangle 23"/>
                        <p:cNvSpPr/>
                        <p:nvPr/>
                      </p:nvSpPr>
                      <p:spPr>
                        <a:xfrm>
                          <a:off x="1217520" y="33541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78" name="Group 168"/>
                        <p:cNvGrpSpPr/>
                        <p:nvPr/>
                      </p:nvGrpSpPr>
                      <p:grpSpPr>
                        <a:xfrm>
                          <a:off x="250920" y="3022560"/>
                          <a:ext cx="2506320" cy="3123000"/>
                          <a:chOff x="250920" y="3022560"/>
                          <a:chExt cx="2506320" cy="3123000"/>
                        </a:xfrm>
                      </p:grpSpPr>
                      <p:sp>
                        <p:nvSpPr>
                          <p:cNvPr id="279" name="Rectangle 21"/>
                          <p:cNvSpPr/>
                          <p:nvPr/>
                        </p:nvSpPr>
                        <p:spPr>
                          <a:xfrm>
                            <a:off x="930240" y="3982680"/>
                            <a:ext cx="2811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Rectangle 5"/>
                          <p:cNvSpPr/>
                          <p:nvPr/>
                        </p:nvSpPr>
                        <p:spPr>
                          <a:xfrm>
                            <a:off x="250920" y="3993480"/>
                            <a:ext cx="3016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Rectangle 2"/>
                          <p:cNvSpPr/>
                          <p:nvPr/>
                        </p:nvSpPr>
                        <p:spPr>
                          <a:xfrm>
                            <a:off x="576360" y="39794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2" name="Line 8"/>
                          <p:cNvSpPr/>
                          <p:nvPr/>
                        </p:nvSpPr>
                        <p:spPr>
                          <a:xfrm>
                            <a:off x="860400" y="413316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" name="Line 9"/>
                          <p:cNvSpPr/>
                          <p:nvPr/>
                        </p:nvSpPr>
                        <p:spPr>
                          <a:xfrm>
                            <a:off x="523800" y="417780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4" name="Group 167"/>
                          <p:cNvGrpSpPr/>
                          <p:nvPr/>
                        </p:nvGrpSpPr>
                        <p:grpSpPr>
                          <a:xfrm>
                            <a:off x="252360" y="3022560"/>
                            <a:ext cx="2504880" cy="3123000"/>
                            <a:chOff x="252360" y="3022560"/>
                            <a:chExt cx="2504880" cy="3123000"/>
                          </a:xfrm>
                        </p:grpSpPr>
                        <p:sp>
                          <p:nvSpPr>
                            <p:cNvPr id="285" name="Rectangle 108"/>
                            <p:cNvSpPr/>
                            <p:nvPr/>
                          </p:nvSpPr>
                          <p:spPr>
                            <a:xfrm>
                              <a:off x="1203480" y="5805000"/>
                              <a:ext cx="1553760" cy="34056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 algn="ctr">
                                <a:lnSpc>
                                  <a:spcPct val="9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Triglicéridos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6" name="Rectangle 4"/>
                            <p:cNvSpPr/>
                            <p:nvPr/>
                          </p:nvSpPr>
                          <p:spPr>
                            <a:xfrm>
                              <a:off x="893880" y="3350520"/>
                              <a:ext cx="28260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O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7" name="Rectangle 3"/>
                            <p:cNvSpPr/>
                            <p:nvPr/>
                          </p:nvSpPr>
                          <p:spPr>
                            <a:xfrm>
                              <a:off x="574560" y="3377520"/>
                              <a:ext cx="3268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C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8" name="Rectangle 11"/>
                            <p:cNvSpPr/>
                            <p:nvPr/>
                          </p:nvSpPr>
                          <p:spPr>
                            <a:xfrm>
                              <a:off x="585720" y="3022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9" name="Rectangle 19"/>
                            <p:cNvSpPr/>
                            <p:nvPr/>
                          </p:nvSpPr>
                          <p:spPr>
                            <a:xfrm>
                              <a:off x="252360" y="3355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0" name="Line 20"/>
                            <p:cNvSpPr/>
                            <p:nvPr/>
                          </p:nvSpPr>
                          <p:spPr>
                            <a:xfrm>
                              <a:off x="466920" y="3492000"/>
                              <a:ext cx="147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1" name="Line 6"/>
                            <p:cNvSpPr/>
                            <p:nvPr/>
                          </p:nvSpPr>
                          <p:spPr>
                            <a:xfrm>
                              <a:off x="723960" y="3282480"/>
                              <a:ext cx="0" cy="1407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2" name="Line 10"/>
                            <p:cNvSpPr/>
                            <p:nvPr/>
                          </p:nvSpPr>
                          <p:spPr>
                            <a:xfrm>
                              <a:off x="819360" y="34952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3" name="Line 26"/>
                            <p:cNvSpPr/>
                            <p:nvPr/>
                          </p:nvSpPr>
                          <p:spPr>
                            <a:xfrm>
                              <a:off x="1176480" y="35078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4" name="Line 159"/>
                          <p:cNvSpPr/>
                          <p:nvPr/>
                        </p:nvSpPr>
                        <p:spPr>
                          <a:xfrm>
                            <a:off x="754200" y="364428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" name="Line 160"/>
                          <p:cNvSpPr/>
                          <p:nvPr/>
                        </p:nvSpPr>
                        <p:spPr>
                          <a:xfrm>
                            <a:off x="754200" y="4293720"/>
                            <a:ext cx="0" cy="358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6" name="Line 25"/>
                        <p:cNvSpPr/>
                        <p:nvPr/>
                      </p:nvSpPr>
                      <p:spPr>
                        <a:xfrm>
                          <a:off x="1460520" y="351612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7" name="Line 44"/>
                    <p:cNvSpPr/>
                    <p:nvPr/>
                  </p:nvSpPr>
                  <p:spPr>
                    <a:xfrm>
                      <a:off x="1162080" y="479736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75"/>
                    <p:cNvSpPr/>
                    <p:nvPr/>
                  </p:nvSpPr>
                  <p:spPr>
                    <a:xfrm>
                      <a:off x="1366920" y="45781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99" name="Text Box 182"/>
              <p:cNvSpPr/>
              <p:nvPr/>
            </p:nvSpPr>
            <p:spPr>
              <a:xfrm>
                <a:off x="5220000" y="37893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83"/>
              <p:cNvSpPr/>
              <p:nvPr/>
            </p:nvSpPr>
            <p:spPr>
              <a:xfrm>
                <a:off x="5148360" y="508464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Line 133"/>
            <p:cNvSpPr/>
            <p:nvPr/>
          </p:nvSpPr>
          <p:spPr>
            <a:xfrm>
              <a:off x="3348000" y="494208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304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309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orma libre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orma libre 16"/>
          <p:cNvSpPr/>
          <p:nvPr/>
        </p:nvSpPr>
        <p:spPr>
          <a:xfrm flipH="1" rot="10518000">
            <a:off x="3493080" y="4368960"/>
            <a:ext cx="353880" cy="158400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rma libre 16"/>
          <p:cNvSpPr/>
          <p:nvPr/>
        </p:nvSpPr>
        <p:spPr>
          <a:xfrm flipH="1">
            <a:off x="4500000" y="2786040"/>
            <a:ext cx="500040" cy="15843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 Box 5"/>
          <p:cNvGrpSpPr/>
          <p:nvPr/>
        </p:nvGrpSpPr>
        <p:grpSpPr>
          <a:xfrm>
            <a:off x="628560" y="85680"/>
            <a:ext cx="7882200" cy="1219320"/>
            <a:chOff x="628560" y="85680"/>
            <a:chExt cx="7882200" cy="1219320"/>
          </a:xfrm>
        </p:grpSpPr>
        <p:pic>
          <p:nvPicPr>
            <p:cNvPr id="314" name="Text Box 5" descr=""/>
            <p:cNvPicPr/>
            <p:nvPr/>
          </p:nvPicPr>
          <p:blipFill>
            <a:blip r:embed="rId1"/>
            <a:stretch/>
          </p:blipFill>
          <p:spPr>
            <a:xfrm>
              <a:off x="628560" y="85680"/>
              <a:ext cx="7882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26920" y="26028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c00000"/>
                  </a:solidFill>
                  <a:latin typeface="Arial"/>
                </a:rPr>
                <a:t>Absorción de Lípid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6"/>
          <p:cNvSpPr/>
          <p:nvPr/>
        </p:nvSpPr>
        <p:spPr>
          <a:xfrm>
            <a:off x="755640" y="2492280"/>
            <a:ext cx="345600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NO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"/>
          <p:cNvGrpSpPr/>
          <p:nvPr/>
        </p:nvGrpSpPr>
        <p:grpSpPr>
          <a:xfrm>
            <a:off x="5472000" y="2286000"/>
            <a:ext cx="3529080" cy="1655640"/>
            <a:chOff x="5472000" y="2286000"/>
            <a:chExt cx="3529080" cy="1655640"/>
          </a:xfrm>
        </p:grpSpPr>
        <p:sp>
          <p:nvSpPr>
            <p:cNvPr id="318" name="Oval 11"/>
            <p:cNvSpPr/>
            <p:nvPr/>
          </p:nvSpPr>
          <p:spPr>
            <a:xfrm>
              <a:off x="5472000" y="2286000"/>
              <a:ext cx="3529080" cy="1655640"/>
            </a:xfrm>
            <a:prstGeom prst="ellipse">
              <a:avLst/>
            </a:prstGeom>
            <a:solidFill>
              <a:srgbClr val="ff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575320" y="2502000"/>
              <a:ext cx="331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raviesan la membrana del enterocito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 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Text Box 8"/>
          <p:cNvGrpSpPr/>
          <p:nvPr/>
        </p:nvGrpSpPr>
        <p:grpSpPr>
          <a:xfrm>
            <a:off x="890640" y="1616040"/>
            <a:ext cx="6789600" cy="395280"/>
            <a:chOff x="890640" y="1616040"/>
            <a:chExt cx="6789600" cy="395280"/>
          </a:xfrm>
        </p:grpSpPr>
        <p:pic>
          <p:nvPicPr>
            <p:cNvPr id="321" name="Text Box 8" descr=""/>
            <p:cNvPicPr/>
            <p:nvPr/>
          </p:nvPicPr>
          <p:blipFill>
            <a:blip r:embed="rId2"/>
            <a:stretch/>
          </p:blipFill>
          <p:spPr>
            <a:xfrm>
              <a:off x="890640" y="1616040"/>
              <a:ext cx="6789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900000" y="1628640"/>
              <a:ext cx="67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YEYU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ILEO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POR DIFUSION PA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9"/>
          <p:cNvSpPr/>
          <p:nvPr/>
        </p:nvSpPr>
        <p:spPr>
          <a:xfrm>
            <a:off x="642960" y="5572080"/>
            <a:ext cx="5975280" cy="3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de C.larga: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714240" y="3786120"/>
            <a:ext cx="504036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ICEL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: Monoglic., AG cad.lar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lesterol, Vit.liposol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327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328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333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334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Forma libre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338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orma libre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344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erol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348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58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60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cc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000" spc="-1" strike="noStrike">
                    <a:solidFill>
                      <a:srgbClr val="c00000"/>
                    </a:solidFill>
                    <a:latin typeface="Times New Roman"/>
                  </a:rPr>
                  <a:t>TG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1 CuadroTexto"/>
          <p:cNvSpPr/>
          <p:nvPr/>
        </p:nvSpPr>
        <p:spPr>
          <a:xfrm>
            <a:off x="5072040" y="5657760"/>
            <a:ext cx="407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K: tioquinasas o Acil CoA sintet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HAP: dihidroxiacetona-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G: ácido graso- MAG: mono-acilglucé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M: quilomic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44 CuadroTexto"/>
          <p:cNvSpPr/>
          <p:nvPr/>
        </p:nvSpPr>
        <p:spPr>
          <a:xfrm>
            <a:off x="7286760" y="3571920"/>
            <a:ext cx="13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45"/>
          <p:cNvSpPr/>
          <p:nvPr/>
        </p:nvSpPr>
        <p:spPr>
          <a:xfrm rot="5400000">
            <a:off x="3329640" y="3771000"/>
            <a:ext cx="539640" cy="360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371" name="Arc 47"/>
            <p:cNvSpPr/>
            <p:nvPr/>
          </p:nvSpPr>
          <p:spPr>
            <a:xfrm rot="17181600">
              <a:off x="2829600" y="3558240"/>
              <a:ext cx="536400" cy="360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2 CuadroTexto"/>
          <p:cNvSpPr/>
          <p:nvPr/>
        </p:nvSpPr>
        <p:spPr>
          <a:xfrm>
            <a:off x="285840" y="1143000"/>
            <a:ext cx="8286840" cy="1679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Arial"/>
              </a:rPr>
              <a:t>LÍPIDOS</a:t>
            </a:r>
            <a:r>
              <a:rPr b="1" lang="es-AR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Características comu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solubles en agu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forman estructuras poliméricas (como los polisacáridos polipépt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357120" y="3000240"/>
            <a:ext cx="8286840" cy="22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mprenden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una amplia variedad de sustancia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riglicéridos (TG) o grasas ne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lesterol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28760" y="5357880"/>
            <a:ext cx="8143920" cy="131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Para el hombre constit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ás del 10 % del peso corporal de un individuo adul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proximadamente el 40 % de las calorías de la alimentación d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se recomienda no más del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ETABOLISMO  LIP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374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375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15 Elipse"/>
          <p:cNvSpPr/>
          <p:nvPr/>
        </p:nvSpPr>
        <p:spPr>
          <a:xfrm>
            <a:off x="71280" y="71280"/>
            <a:ext cx="4143600" cy="5500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7 CuadroTexto"/>
          <p:cNvSpPr/>
          <p:nvPr/>
        </p:nvSpPr>
        <p:spPr>
          <a:xfrm>
            <a:off x="513000" y="12142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9 Elipse"/>
          <p:cNvSpPr/>
          <p:nvPr/>
        </p:nvSpPr>
        <p:spPr>
          <a:xfrm rot="5618400">
            <a:off x="2070000" y="3492360"/>
            <a:ext cx="1928880" cy="4802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cidos grasos de cadena corta (6-10 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 Acidos grasos de cadena larga (12-18 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Resíntesis de TG             Q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755640" y="476280"/>
            <a:ext cx="7489800" cy="132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Destino de los lípidos absorb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en el enteroc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5435640" y="4941720"/>
            <a:ext cx="122400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2050920" y="2924280"/>
            <a:ext cx="1224000" cy="57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3419640" y="299736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1908000" y="486900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>
            <a:off x="5796000" y="5661000"/>
            <a:ext cx="574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3995640" y="5589720"/>
            <a:ext cx="50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6012000" y="3513240"/>
            <a:ext cx="165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659640" y="5373720"/>
            <a:ext cx="151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7"/>
          <p:cNvGrpSpPr/>
          <p:nvPr/>
        </p:nvGrpSpPr>
        <p:grpSpPr>
          <a:xfrm>
            <a:off x="900000" y="2827440"/>
            <a:ext cx="7417080" cy="398880"/>
            <a:chOff x="900000" y="2827440"/>
            <a:chExt cx="7417080" cy="398880"/>
          </a:xfrm>
        </p:grpSpPr>
        <p:sp>
          <p:nvSpPr>
            <p:cNvPr id="400" name="Text Box 4"/>
            <p:cNvSpPr/>
            <p:nvPr/>
          </p:nvSpPr>
          <p:spPr>
            <a:xfrm>
              <a:off x="900000" y="2827440"/>
              <a:ext cx="74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ACIDO GRASO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H                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ACIL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"/>
            <p:cNvSpPr/>
            <p:nvPr/>
          </p:nvSpPr>
          <p:spPr>
            <a:xfrm>
              <a:off x="4500720" y="300024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6"/>
          <p:cNvSpPr/>
          <p:nvPr/>
        </p:nvSpPr>
        <p:spPr>
          <a:xfrm>
            <a:off x="4572000" y="2400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4143240" y="3214800"/>
            <a:ext cx="24289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TP       AMP  +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4643280" y="3000240"/>
            <a:ext cx="785880" cy="285840"/>
          </a:xfrm>
          <a:custGeom>
            <a:avLst/>
            <a:gdLst>
              <a:gd name="textAreaLeft" fmla="*/ 164160 w 785880"/>
              <a:gd name="textAreaRight" fmla="*/ 578880 w 7858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0" hR="21600" stAng="10800000" swAng="5400000"/>
                <a:lnTo>
                  <a:pt x="11391" y="0"/>
                </a:lnTo>
                <a:arcTo wR="9030" hR="21600" stAng="-5400000" swAng="2986616"/>
                <a:lnTo>
                  <a:pt x="21084" y="14400"/>
                </a:lnTo>
                <a:lnTo>
                  <a:pt x="19240" y="21600"/>
                </a:lnTo>
                <a:lnTo>
                  <a:pt x="16363" y="14400"/>
                </a:lnTo>
                <a:lnTo>
                  <a:pt x="17543" y="14400"/>
                </a:lnTo>
                <a:arcTo wR="9030" hR="21600" stAng="-2413384" swAng="-2797298"/>
                <a:lnTo>
                  <a:pt x="10210" y="185"/>
                </a:lnTo>
                <a:arcTo wR="9030" hR="21600" stAng="-5589317" swAng="-5210683"/>
                <a:close/>
              </a:path>
              <a:path fill="darkenLess" w="21600" h="21600">
                <a:moveTo>
                  <a:pt x="0" y="21600"/>
                </a:moveTo>
                <a:arcTo wR="9030" hR="21600" stAng="10800000" swAng="5400000"/>
                <a:lnTo>
                  <a:pt x="9030" y="0"/>
                </a:lnTo>
                <a:arcTo wR="9030" hR="21600" stAng="-5400000" swAng="189317"/>
                <a:lnTo>
                  <a:pt x="10210" y="185"/>
                </a:lnTo>
                <a:arcTo wR="9030" hR="21600" stAng="-5589317" swAng="-52106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TG en el enteroci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15"/>
          <p:cNvGrpSpPr/>
          <p:nvPr/>
        </p:nvGrpSpPr>
        <p:grpSpPr>
          <a:xfrm>
            <a:off x="179280" y="4572360"/>
            <a:ext cx="8820360" cy="1110600"/>
            <a:chOff x="179280" y="4572360"/>
            <a:chExt cx="8820360" cy="1110600"/>
          </a:xfrm>
        </p:grpSpPr>
        <p:sp>
          <p:nvSpPr>
            <p:cNvPr id="407" name="Text Box 10"/>
            <p:cNvSpPr/>
            <p:nvPr/>
          </p:nvSpPr>
          <p:spPr>
            <a:xfrm>
              <a:off x="179280" y="4724280"/>
              <a:ext cx="88203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cc"/>
                  </a:solidFill>
                  <a:latin typeface="Arial"/>
                </a:rPr>
                <a:t>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O                                                                 O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–C-O</a:t>
              </a:r>
              <a:r>
                <a:rPr b="1" lang="es-ES_tradnl" sz="2000" spc="-1" strike="noStrike" baseline="30000">
                  <a:solidFill>
                    <a:srgbClr val="0000cc"/>
                  </a:solidFill>
                  <a:latin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H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–C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-CoA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AMP + P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 rot="19201800">
              <a:off x="109368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4071960" y="51436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 rot="19201800">
              <a:off x="5808600" y="4698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5 CuadroTexto"/>
          <p:cNvSpPr/>
          <p:nvPr/>
        </p:nvSpPr>
        <p:spPr>
          <a:xfrm>
            <a:off x="19800" y="1285920"/>
            <a:ext cx="55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1)- Activación de los Ácidos gr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iosíntesis de Acil-Coenzim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6 CuadroTexto"/>
          <p:cNvSpPr/>
          <p:nvPr/>
        </p:nvSpPr>
        <p:spPr>
          <a:xfrm>
            <a:off x="6725160" y="314316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7 CuadroTexto"/>
          <p:cNvSpPr/>
          <p:nvPr/>
        </p:nvSpPr>
        <p:spPr>
          <a:xfrm>
            <a:off x="5081760" y="50688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571920" y="4500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96"/>
          <p:cNvSpPr/>
          <p:nvPr/>
        </p:nvSpPr>
        <p:spPr>
          <a:xfrm flipH="1">
            <a:off x="5867280" y="2143080"/>
            <a:ext cx="347760" cy="8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8"/>
          <p:cNvGrpSpPr/>
          <p:nvPr/>
        </p:nvGrpSpPr>
        <p:grpSpPr>
          <a:xfrm>
            <a:off x="1071720" y="1251720"/>
            <a:ext cx="2808000" cy="1066680"/>
            <a:chOff x="1071720" y="1251720"/>
            <a:chExt cx="2808000" cy="1066680"/>
          </a:xfrm>
        </p:grpSpPr>
        <p:sp>
          <p:nvSpPr>
            <p:cNvPr id="428" name="Text Box 29"/>
            <p:cNvSpPr/>
            <p:nvPr/>
          </p:nvSpPr>
          <p:spPr>
            <a:xfrm>
              <a:off x="1071720" y="1446480"/>
              <a:ext cx="2808000" cy="8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-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–C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 rot="19201800">
              <a:off x="2415960" y="13777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Group 32" descr=""/>
          <p:cNvPicPr/>
          <p:nvPr/>
        </p:nvPicPr>
        <p:blipFill>
          <a:blip r:embed="rId1"/>
          <a:stretch/>
        </p:blipFill>
        <p:spPr>
          <a:xfrm>
            <a:off x="6040440" y="2462040"/>
            <a:ext cx="2762280" cy="2749680"/>
          </a:xfrm>
          <a:prstGeom prst="rect">
            <a:avLst/>
          </a:prstGeom>
          <a:ln w="0">
            <a:noFill/>
          </a:ln>
        </p:spPr>
      </p:pic>
      <p:sp>
        <p:nvSpPr>
          <p:cNvPr id="431" name="Line 89"/>
          <p:cNvSpPr/>
          <p:nvPr/>
        </p:nvSpPr>
        <p:spPr>
          <a:xfrm>
            <a:off x="7236000" y="407664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1"/>
          <p:cNvSpPr/>
          <p:nvPr/>
        </p:nvSpPr>
        <p:spPr>
          <a:xfrm>
            <a:off x="3143160" y="2214720"/>
            <a:ext cx="357120" cy="71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2"/>
          <p:cNvSpPr/>
          <p:nvPr/>
        </p:nvSpPr>
        <p:spPr>
          <a:xfrm>
            <a:off x="3571920" y="2357280"/>
            <a:ext cx="237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3"/>
          <p:cNvSpPr/>
          <p:nvPr/>
        </p:nvSpPr>
        <p:spPr>
          <a:xfrm>
            <a:off x="1714680" y="2857680"/>
            <a:ext cx="1390320" cy="83376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Monoa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cé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4"/>
          <p:cNvSpPr/>
          <p:nvPr/>
        </p:nvSpPr>
        <p:spPr>
          <a:xfrm>
            <a:off x="4078800" y="2857680"/>
            <a:ext cx="1261080" cy="8337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2 + 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ci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cé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5"/>
          <p:cNvSpPr/>
          <p:nvPr/>
        </p:nvSpPr>
        <p:spPr>
          <a:xfrm flipV="1">
            <a:off x="5500800" y="3142800"/>
            <a:ext cx="64296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97"/>
          <p:cNvGrpSpPr/>
          <p:nvPr/>
        </p:nvGrpSpPr>
        <p:grpSpPr>
          <a:xfrm>
            <a:off x="5786280" y="1116720"/>
            <a:ext cx="2808360" cy="1341000"/>
            <a:chOff x="5786280" y="1116720"/>
            <a:chExt cx="2808360" cy="1341000"/>
          </a:xfrm>
        </p:grpSpPr>
        <p:sp>
          <p:nvSpPr>
            <p:cNvPr id="438" name="Text Box 98"/>
            <p:cNvSpPr/>
            <p:nvPr/>
          </p:nvSpPr>
          <p:spPr>
            <a:xfrm>
              <a:off x="5786280" y="1311480"/>
              <a:ext cx="28083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-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–C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99"/>
            <p:cNvSpPr/>
            <p:nvPr/>
          </p:nvSpPr>
          <p:spPr>
            <a:xfrm rot="19201800">
              <a:off x="6581880" y="12427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2"/>
          <p:cNvSpPr/>
          <p:nvPr/>
        </p:nvSpPr>
        <p:spPr>
          <a:xfrm>
            <a:off x="642960" y="21420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Biosíntesis de TG en el enteroc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85 CuadroTexto"/>
          <p:cNvSpPr/>
          <p:nvPr/>
        </p:nvSpPr>
        <p:spPr>
          <a:xfrm>
            <a:off x="300240" y="928800"/>
            <a:ext cx="31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2) Re-síntesis de 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1"/>
          <p:cNvSpPr/>
          <p:nvPr/>
        </p:nvSpPr>
        <p:spPr>
          <a:xfrm flipV="1">
            <a:off x="3295800" y="3142800"/>
            <a:ext cx="70488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444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447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448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449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450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1" name="Text Box 5"/>
                  <p:cNvSpPr/>
                  <p:nvPr/>
                </p:nvSpPr>
                <p:spPr>
                  <a:xfrm>
                    <a:off x="6639120" y="2289240"/>
                    <a:ext cx="12780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Text Box 6"/>
                  <p:cNvSpPr/>
                  <p:nvPr/>
                </p:nvSpPr>
                <p:spPr>
                  <a:xfrm>
                    <a:off x="5924520" y="4556160"/>
                    <a:ext cx="133020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4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prstGeom prst="pie">
                <a:avLst/>
              </a:prstGeom>
              <a:noFill/>
              <a:ln w="38160">
                <a:solidFill>
                  <a:srgbClr val="be4b4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34 CuadroTexto"/>
              <p:cNvSpPr/>
              <p:nvPr/>
            </p:nvSpPr>
            <p:spPr>
              <a:xfrm>
                <a:off x="7986240" y="27860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0"/>
          <p:cNvGrpSpPr/>
          <p:nvPr/>
        </p:nvGrpSpPr>
        <p:grpSpPr>
          <a:xfrm>
            <a:off x="1399680" y="809640"/>
            <a:ext cx="2520000" cy="654120"/>
            <a:chOff x="1399680" y="809640"/>
            <a:chExt cx="2520000" cy="654120"/>
          </a:xfrm>
        </p:grpSpPr>
        <p:sp>
          <p:nvSpPr>
            <p:cNvPr id="460" name="Text Box 11"/>
            <p:cNvSpPr/>
            <p:nvPr/>
          </p:nvSpPr>
          <p:spPr>
            <a:xfrm>
              <a:off x="1399680" y="10648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2720880" y="80964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21"/>
          <p:cNvGrpSpPr/>
          <p:nvPr/>
        </p:nvGrpSpPr>
        <p:grpSpPr>
          <a:xfrm>
            <a:off x="1111680" y="2465280"/>
            <a:ext cx="3023640" cy="842040"/>
            <a:chOff x="1111680" y="2465280"/>
            <a:chExt cx="3023640" cy="842040"/>
          </a:xfrm>
        </p:grpSpPr>
        <p:sp>
          <p:nvSpPr>
            <p:cNvPr id="464" name="Text Box 14"/>
            <p:cNvSpPr/>
            <p:nvPr/>
          </p:nvSpPr>
          <p:spPr>
            <a:xfrm>
              <a:off x="1111680" y="2703240"/>
              <a:ext cx="14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2935800" y="24652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2625480" y="29700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3344400" y="2970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rc 19"/>
            <p:cNvSpPr/>
            <p:nvPr/>
          </p:nvSpPr>
          <p:spPr>
            <a:xfrm>
              <a:off x="2833560" y="2898360"/>
              <a:ext cx="870120" cy="24768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uadro de texto 10"/>
          <p:cNvSpPr/>
          <p:nvPr/>
        </p:nvSpPr>
        <p:spPr>
          <a:xfrm>
            <a:off x="2214720" y="3429000"/>
            <a:ext cx="185724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Acil-Co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Acil-Co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475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476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síntesis de TG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versión de ácido graso libre en acil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versión de la acil CoA en monoglicérido 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ición de un residuo acil CoA al fosfo-monoglicérido para formar un fosfodiglicérido (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ácido fosfatíd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rmación de TG por incorporación de otro acil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480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481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39 Elipse"/>
          <p:cNvSpPr/>
          <p:nvPr/>
        </p:nvSpPr>
        <p:spPr>
          <a:xfrm rot="5618400">
            <a:off x="5433120" y="3221640"/>
            <a:ext cx="2576520" cy="4689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QUILOMICRON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395280" y="1481040"/>
            <a:ext cx="5462640" cy="5194800"/>
            <a:chOff x="395280" y="1481040"/>
            <a:chExt cx="5462640" cy="5194800"/>
          </a:xfrm>
        </p:grpSpPr>
        <p:pic>
          <p:nvPicPr>
            <p:cNvPr id="494" name="Picture 4" descr=""/>
            <p:cNvPicPr/>
            <p:nvPr/>
          </p:nvPicPr>
          <p:blipFill>
            <a:blip r:embed="rId1"/>
            <a:stretch/>
          </p:blipFill>
          <p:spPr>
            <a:xfrm>
              <a:off x="753840" y="1481040"/>
              <a:ext cx="45309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5"/>
            <p:cNvSpPr/>
            <p:nvPr/>
          </p:nvSpPr>
          <p:spPr>
            <a:xfrm>
              <a:off x="3779640" y="1571400"/>
              <a:ext cx="207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polipo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"/>
            <p:cNvSpPr/>
            <p:nvPr/>
          </p:nvSpPr>
          <p:spPr>
            <a:xfrm>
              <a:off x="3922560" y="5719680"/>
              <a:ext cx="14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7"/>
            <p:cNvSpPr/>
            <p:nvPr/>
          </p:nvSpPr>
          <p:spPr>
            <a:xfrm>
              <a:off x="2843280" y="6137280"/>
              <a:ext cx="25923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Triglicéridos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es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"/>
            <p:cNvSpPr/>
            <p:nvPr/>
          </p:nvSpPr>
          <p:spPr>
            <a:xfrm>
              <a:off x="395280" y="5792760"/>
              <a:ext cx="143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9"/>
          <p:cNvSpPr/>
          <p:nvPr/>
        </p:nvSpPr>
        <p:spPr>
          <a:xfrm>
            <a:off x="5292720" y="2852640"/>
            <a:ext cx="3635280" cy="119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LOS QUILOMICRONES TRANSPORTAN TRIGLICERIDOS DE ORIGEN EX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6"/>
          <p:cNvGrpSpPr/>
          <p:nvPr/>
        </p:nvGrpSpPr>
        <p:grpSpPr>
          <a:xfrm>
            <a:off x="428760" y="214200"/>
            <a:ext cx="8068680" cy="6562800"/>
            <a:chOff x="428760" y="214200"/>
            <a:chExt cx="8068680" cy="6562800"/>
          </a:xfrm>
        </p:grpSpPr>
        <p:pic>
          <p:nvPicPr>
            <p:cNvPr id="501" name="Picture 4" descr=""/>
            <p:cNvPicPr/>
            <p:nvPr/>
          </p:nvPicPr>
          <p:blipFill>
            <a:blip r:embed="rId1"/>
            <a:stretch/>
          </p:blipFill>
          <p:spPr>
            <a:xfrm>
              <a:off x="428760" y="214200"/>
              <a:ext cx="8052480" cy="635364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502" name="Text Box 7"/>
            <p:cNvSpPr/>
            <p:nvPr/>
          </p:nvSpPr>
          <p:spPr>
            <a:xfrm>
              <a:off x="613440" y="214200"/>
              <a:ext cx="75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imes New Roman"/>
                </a:rPr>
                <a:t>DIGESTIÓN Y ABSORCIÓN DE LIPIDOS DE LA DI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8"/>
            <p:cNvSpPr/>
            <p:nvPr/>
          </p:nvSpPr>
          <p:spPr>
            <a:xfrm>
              <a:off x="607320" y="3645360"/>
              <a:ext cx="20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1) Las sales biliares emulsionan las Grasas formando micel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9"/>
            <p:cNvSpPr/>
            <p:nvPr/>
          </p:nvSpPr>
          <p:spPr>
            <a:xfrm>
              <a:off x="5254200" y="5869800"/>
              <a:ext cx="265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4) Los TAG son incorporados con colesterol y Apolipoproteínas en los QUILOMICRON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0"/>
            <p:cNvSpPr/>
            <p:nvPr/>
          </p:nvSpPr>
          <p:spPr>
            <a:xfrm>
              <a:off x="6654240" y="4474800"/>
              <a:ext cx="1841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5) Los QUILOMICRONES viajan por el Sistema Linfático y el Torrente sanguíneo hacia los Tejid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691680" y="3193560"/>
              <a:ext cx="1693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6) La Lipoproteínlipasa activada por apo-C en los capilares convierten los TAG en AG y Glicero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6949800" y="228708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7) Los AG entran a la célul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5954400" y="741240"/>
              <a:ext cx="234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8) Los AG son Oxidados como combustible o re-esterificados para almacenamient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649080" y="4624560"/>
              <a:ext cx="195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2)  Lipasas intestinales degradan los Triglicé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5"/>
            <p:cNvSpPr/>
            <p:nvPr/>
          </p:nvSpPr>
          <p:spPr>
            <a:xfrm>
              <a:off x="649080" y="5492520"/>
              <a:ext cx="243144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3) Los Ácidos Grasos y otros productos de la digestión son tomados por la mucosa intestinal y convertidos en TA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16 CuadroTexto"/>
          <p:cNvSpPr/>
          <p:nvPr/>
        </p:nvSpPr>
        <p:spPr>
          <a:xfrm>
            <a:off x="1889640" y="642960"/>
            <a:ext cx="167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sas ingerid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 la di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39 Elipse"/>
          <p:cNvSpPr/>
          <p:nvPr/>
        </p:nvSpPr>
        <p:spPr>
          <a:xfrm>
            <a:off x="4643280" y="142920"/>
            <a:ext cx="4214880" cy="4714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00000"/>
                </a:solidFill>
                <a:latin typeface="Arial"/>
                <a:ea typeface="Arial"/>
              </a:rPr>
              <a:t>LIPO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964720" cy="47530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on complejos formados por proteínas y lípidos cuya función es la de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transportar en el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ípidos y vitaminas liposolu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on partículas globulares similares a micelas que presentan un núcleo no p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el núcleo se encuentran TG y Estere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n la capa externa: proteínas, fosfolípidos y colesterol lib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72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74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1258920" y="1246320"/>
            <a:ext cx="6913440" cy="5567400"/>
            <a:chOff x="1258920" y="1246320"/>
            <a:chExt cx="6913440" cy="5567400"/>
          </a:xfrm>
        </p:grpSpPr>
        <p:pic>
          <p:nvPicPr>
            <p:cNvPr id="517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131616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7"/>
            <p:cNvSpPr/>
            <p:nvPr/>
          </p:nvSpPr>
          <p:spPr>
            <a:xfrm>
              <a:off x="1258920" y="1870200"/>
              <a:ext cx="158436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"/>
            <p:cNvSpPr/>
            <p:nvPr/>
          </p:nvSpPr>
          <p:spPr>
            <a:xfrm>
              <a:off x="2987640" y="1246320"/>
              <a:ext cx="180036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5292720" y="1319040"/>
              <a:ext cx="1584360" cy="368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"/>
            <p:cNvSpPr/>
            <p:nvPr/>
          </p:nvSpPr>
          <p:spPr>
            <a:xfrm>
              <a:off x="3429000" y="4000680"/>
              <a:ext cx="2952720" cy="971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eres de Colesterol y Triacil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4" descr="2figura02[1]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531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3851280" y="1484280"/>
            <a:ext cx="1584360" cy="865080"/>
          </a:xfrm>
          <a:prstGeom prst="rect">
            <a:avLst/>
          </a:prstGeom>
          <a:solidFill>
            <a:srgbClr val="f1a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6948360" y="1557360"/>
            <a:ext cx="1511280" cy="57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357120" y="428760"/>
          <a:ext cx="8143920" cy="6143400"/>
        </p:xfrm>
        <a:graphic>
          <a:graphicData uri="http://schemas.openxmlformats.org/drawingml/2006/table">
            <a:tbl>
              <a:tblPr/>
              <a:tblGrid>
                <a:gridCol w="2036880"/>
                <a:gridCol w="2035080"/>
                <a:gridCol w="2036880"/>
                <a:gridCol w="2035080"/>
              </a:tblGrid>
              <a:tr h="71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po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Dens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ípido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poproteína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Q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Quilomicr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exóg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48, A-1,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VLDL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ipoproteínas de muy baja den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endóg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, E, C-I, CII, C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ipoproteínas de densidad inter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ste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erificado (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DL                                     Lipoproteínas de baja dens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HDL                                     Lipoproteínas de alta den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olípi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-I, II; CII, D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4 CuadroTexto"/>
          <p:cNvSpPr/>
          <p:nvPr/>
        </p:nvSpPr>
        <p:spPr>
          <a:xfrm>
            <a:off x="42120" y="0"/>
            <a:ext cx="91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piedades y composición de las Lipoproteínas plas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357120" y="428760"/>
          <a:ext cx="8643960" cy="624816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50148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c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755640" y="1052640"/>
            <a:ext cx="7920000" cy="54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SON COMPONENTES PROTE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DE LAS LIPO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NCIONES 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1- 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ACTIVAN ENZIMA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LAVES DEL METABOLISMO DE LAS LIPO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2)- SE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UNEN A RECEPTORE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DE LA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 INTERNALIZARSE (INGRESAR A LA CEL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3)- APOPROTEINAS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LAS APOPROTEINAS SON INTERCAMBIABLES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TODAS LAS LIPOPROTE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504d"/>
                </a:solidFill>
                <a:latin typeface="Arial"/>
              </a:rPr>
              <a:t>EXCEPTO B48 Y B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</a:rPr>
              <a:t>Apolipoproteí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cción d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a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ipoprotein lipasa (LPL) y </a:t>
            </a:r>
            <a:br>
              <a:rPr sz="2800"/>
            </a:b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35 CuadroTexto"/>
          <p:cNvSpPr/>
          <p:nvPr/>
        </p:nvSpPr>
        <p:spPr>
          <a:xfrm>
            <a:off x="3782520" y="27147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PL ó 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Acción de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Lecitin Colesterol Acil Transferasa (LCAT) </a:t>
            </a:r>
            <a:r>
              <a:rPr b="1" lang="es-AR" sz="3200" spc="-1" strike="noStrike">
                <a:solidFill>
                  <a:srgbClr val="0000cc"/>
                </a:solidFill>
                <a:latin typeface="Arial"/>
                <a:ea typeface="Arial"/>
              </a:rPr>
              <a:t>en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542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543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Arial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9 CuadroTexto"/>
          <p:cNvSpPr/>
          <p:nvPr/>
        </p:nvSpPr>
        <p:spPr>
          <a:xfrm>
            <a:off x="910440" y="6286680"/>
            <a:ext cx="77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¿cómo se sintetizan los ésteres de Colesterol en las Lipoproteí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(ACAT)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  <a:ea typeface="Arial"/>
              </a:rPr>
              <a:t> intracelular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551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553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Arial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10 CuadroTexto"/>
          <p:cNvSpPr/>
          <p:nvPr/>
        </p:nvSpPr>
        <p:spPr>
          <a:xfrm>
            <a:off x="6343920" y="150012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¿cómo se sintetizan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ésteres de Coleste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en el interior cel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TEROSCLE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 progresiva que finaliza con formaciones de placas calcificadas fibr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laciona con niveles elevados de colesterol plas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taciones puntuales en rece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3 CuadroTexto"/>
          <p:cNvSpPr/>
          <p:nvPr/>
        </p:nvSpPr>
        <p:spPr>
          <a:xfrm>
            <a:off x="5834880" y="52149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3 CuadroTexto"/>
          <p:cNvSpPr/>
          <p:nvPr/>
        </p:nvSpPr>
        <p:spPr>
          <a:xfrm>
            <a:off x="428760" y="50004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Aterosclerosis, LDL y Riesgo Aterogé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Niveles elevados de LDL y con ellos de colesterol, incrementan la tendencia a la produc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terom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Estas placas  (ateroma) están compuestas por acúmulos de colesterol, restos celulares, células musculares lisas y fibras de tejido conjuntivo, que disminuyen la luz y elasticidad del va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Sobre estas placas se pueden formar coágulos que pueden obstruir totalmente la arteria y pueden  llevar a infarto de miocardio o accidentes cerebro vas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 CuadroTexto"/>
          <p:cNvSpPr/>
          <p:nvPr/>
        </p:nvSpPr>
        <p:spPr>
          <a:xfrm>
            <a:off x="6434640" y="59259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1785960" y="7142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Constitutivos de órgano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anto térmi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en el tejido subcutáneo aísl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l cuerpo evitando la pérdida de ca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las membranas celulares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Fosfolí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caracteres sexuale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4 CuadroTexto"/>
          <p:cNvSpPr/>
          <p:nvPr/>
        </p:nvSpPr>
        <p:spPr>
          <a:xfrm>
            <a:off x="2439000" y="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LOS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Se pueden clasificar por su función</a:t>
            </a: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1714680" y="3286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Triglicé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Abrir llave"/>
          <p:cNvSpPr/>
          <p:nvPr/>
        </p:nvSpPr>
        <p:spPr>
          <a:xfrm>
            <a:off x="1643040" y="100008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Abrir llave"/>
          <p:cNvSpPr/>
          <p:nvPr/>
        </p:nvSpPr>
        <p:spPr>
          <a:xfrm>
            <a:off x="1643040" y="3357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0 Conector recto"/>
          <p:cNvSpPr/>
          <p:nvPr/>
        </p:nvSpPr>
        <p:spPr>
          <a:xfrm>
            <a:off x="785880" y="3857760"/>
            <a:ext cx="857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3 Conector recto"/>
          <p:cNvSpPr/>
          <p:nvPr/>
        </p:nvSpPr>
        <p:spPr>
          <a:xfrm flipV="1">
            <a:off x="714240" y="2071800"/>
            <a:ext cx="85752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9 CuadroTexto"/>
          <p:cNvSpPr/>
          <p:nvPr/>
        </p:nvSpPr>
        <p:spPr>
          <a:xfrm>
            <a:off x="1737000" y="4286160"/>
            <a:ext cx="6738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Calibri"/>
              </a:rPr>
              <a:t>Actividad biológica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Reguladores Biológ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Pigment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Cofacto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Detergent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Mensajeros celul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icosano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0 Abrir llave"/>
          <p:cNvSpPr/>
          <p:nvPr/>
        </p:nvSpPr>
        <p:spPr>
          <a:xfrm>
            <a:off x="1643040" y="435780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1 Conector recto"/>
          <p:cNvSpPr/>
          <p:nvPr/>
        </p:nvSpPr>
        <p:spPr>
          <a:xfrm>
            <a:off x="642960" y="4081320"/>
            <a:ext cx="928800" cy="141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3 Rectángulo"/>
          <p:cNvSpPr/>
          <p:nvPr/>
        </p:nvSpPr>
        <p:spPr>
          <a:xfrm>
            <a:off x="1214280" y="1071720"/>
            <a:ext cx="7000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 formación de ateromas refleja un aumento en la producción de LDL y/o una disminución de receptores para LDL (receptores para Apo B100) lo que disminuye la capacidad para captar esta lipoproteína por las cél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por esto que se considera a las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L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 de riesgo ater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Condiciones que contribuyen al desarrollo de ateroma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cc"/>
                </a:solidFill>
                <a:latin typeface="Arial"/>
              </a:rPr>
              <a:t>hipercolesterolemia, diabetes, hipertensión, hábito de fumar, estrés, dieta rica en grasas animales, obesidad y sedenta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2 CuadroTexto"/>
          <p:cNvSpPr/>
          <p:nvPr/>
        </p:nvSpPr>
        <p:spPr>
          <a:xfrm>
            <a:off x="6334920" y="614052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CuadroTexto"/>
          <p:cNvSpPr/>
          <p:nvPr/>
        </p:nvSpPr>
        <p:spPr>
          <a:xfrm>
            <a:off x="1785960" y="714240"/>
            <a:ext cx="57862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Considerando la función principal de HD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relación inversa entre el nivel de HDL y la ateroscle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mayor nivel de HDL el riesgo de padecer accidentes vasculares es men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por esto que se conside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HDL factor de protección frente al riesgo   aterogénic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2 CuadroTexto"/>
          <p:cNvSpPr/>
          <p:nvPr/>
        </p:nvSpPr>
        <p:spPr>
          <a:xfrm>
            <a:off x="6477840" y="628344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ateroma"/>
          <p:cNvPicPr/>
          <p:nvPr/>
        </p:nvPicPr>
        <p:blipFill>
          <a:blip r:embed="rId1"/>
          <a:stretch/>
        </p:blipFill>
        <p:spPr>
          <a:xfrm>
            <a:off x="684360" y="401760"/>
            <a:ext cx="7272360" cy="5662440"/>
          </a:xfrm>
          <a:prstGeom prst="rect">
            <a:avLst/>
          </a:prstGeom>
          <a:ln w="0">
            <a:noFill/>
          </a:ln>
        </p:spPr>
      </p:pic>
      <p:sp>
        <p:nvSpPr>
          <p:cNvPr id="569" name="2 CuadroTexto"/>
          <p:cNvSpPr/>
          <p:nvPr/>
        </p:nvSpPr>
        <p:spPr>
          <a:xfrm>
            <a:off x="6363360" y="62118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Tema de interés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No e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2 CuadroTexto"/>
          <p:cNvSpPr/>
          <p:nvPr/>
        </p:nvSpPr>
        <p:spPr>
          <a:xfrm>
            <a:off x="785880" y="571680"/>
            <a:ext cx="7572240" cy="5825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s lípidos present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ncuentran generalmente en mayor concentració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Ace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Man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Yema de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En general están present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triglicéridos (grasas neut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cidos grasos y sus de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taminas liposolubles (A, D, E,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s grasas producen por oxidación 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9 Kcal/g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doble de energía  respecto a los hidratos de carb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 las proteínas (4 Kcal/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1104301-Fats-SPL"/>
          <p:cNvPicPr/>
          <p:nvPr/>
        </p:nvPicPr>
        <p:blipFill>
          <a:blip r:embed="rId1"/>
          <a:stretch/>
        </p:blipFill>
        <p:spPr>
          <a:xfrm>
            <a:off x="6072120" y="1714680"/>
            <a:ext cx="2239920" cy="311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467560" y="0"/>
            <a:ext cx="390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42960" y="1893960"/>
          <a:ext cx="7858080" cy="3392280"/>
        </p:xfrm>
        <a:graphic>
          <a:graphicData uri="http://schemas.openxmlformats.org/drawingml/2006/table">
            <a:tbl>
              <a:tblPr/>
              <a:tblGrid>
                <a:gridCol w="2021040"/>
                <a:gridCol w="1944360"/>
                <a:gridCol w="1946520"/>
                <a:gridCol w="194616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Mono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Pol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Giras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Maí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O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uacate (Pal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1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ma de ace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91" name="4 CuadroTexto"/>
          <p:cNvGrpSpPr/>
          <p:nvPr/>
        </p:nvGrpSpPr>
        <p:grpSpPr>
          <a:xfrm>
            <a:off x="291960" y="103320"/>
            <a:ext cx="8759880" cy="768240"/>
            <a:chOff x="291960" y="103320"/>
            <a:chExt cx="8759880" cy="768240"/>
          </a:xfrm>
        </p:grpSpPr>
        <p:pic>
          <p:nvPicPr>
            <p:cNvPr id="92" name="4 CuadroTexto" descr=""/>
            <p:cNvPicPr/>
            <p:nvPr/>
          </p:nvPicPr>
          <p:blipFill>
            <a:blip r:embed="rId1"/>
            <a:stretch/>
          </p:blipFill>
          <p:spPr>
            <a:xfrm>
              <a:off x="291960" y="103320"/>
              <a:ext cx="87598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760" y="21420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c00000"/>
                  </a:solidFill>
                  <a:latin typeface="Calibri"/>
                </a:rPr>
                <a:t>Composición de ácidos grasos en distintos ace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1773000"/>
            <a:ext cx="7812000" cy="39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imer doble enlace se encuentra en el tercer carbono contando desde el extremo metílico (denominado om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6):El primer doble enlace se encuentra en el sexto carbono contando desde el extremo metí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no son sintetizados por el organismo</a:t>
            </a:r>
            <a:br>
              <a:rPr sz="24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- deben ser provistos co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00040" y="5143680"/>
            <a:ext cx="7715160" cy="78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ICO (18:2) 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% del valor calórico de la di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2987640"/>
            <a:ext cx="475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NICO (18:3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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000760" y="4714920"/>
            <a:ext cx="3552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Ácidos grasos poliinsaturados</a:t>
            </a:r>
            <a:br>
              <a:rPr sz="28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Importancia e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Omega fatty acids ES"/>
          <p:cNvPicPr/>
          <p:nvPr/>
        </p:nvPicPr>
        <p:blipFill>
          <a:blip r:embed="rId1"/>
          <a:stretch/>
        </p:blipFill>
        <p:spPr>
          <a:xfrm>
            <a:off x="5715000" y="1571760"/>
            <a:ext cx="3429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12 CuadroTexto"/>
          <p:cNvSpPr/>
          <p:nvPr/>
        </p:nvSpPr>
        <p:spPr>
          <a:xfrm>
            <a:off x="63720" y="1785960"/>
            <a:ext cx="554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Dieta rica en AG poliinsaturados (</a:t>
            </a: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cis</a:t>
            </a: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1-2% del total de calorí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aceites vegetales y de semillas (colza, nu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pescado graso (salmón, caballa, arenqu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colesterol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nivel de TG e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Factor preventivo de at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Protegen de enfermedad cor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Efecto regulador del metabolism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Lipoproteínas del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(disminuyen la p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y aumentan la degradación de las L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gestión y Absorc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e los Lípido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 de texto 5"/>
          <p:cNvSpPr/>
          <p:nvPr/>
        </p:nvSpPr>
        <p:spPr>
          <a:xfrm>
            <a:off x="539640" y="1214280"/>
            <a:ext cx="784872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22:58:13Z</dcterms:created>
  <dc:creator>ali y facu</dc:creator>
  <dc:description/>
  <dc:language>en-US</dc:language>
  <cp:lastModifiedBy>ali y facu</cp:lastModifiedBy>
  <dcterms:modified xsi:type="dcterms:W3CDTF">2015-05-17T15:11:42Z</dcterms:modified>
  <cp:revision>317</cp:revision>
  <dc:subject/>
  <dc:title>Diapositiva 1</dc:title>
</cp:coreProperties>
</file>